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58C-FBE0-41F1-92B7-80F0BEE4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A8C-B0F3-433D-B524-37F0DFB7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D72-1A83-4595-B0AC-29858107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B6E-BEB1-480F-AF53-DBF2C7AE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373-945A-4DFD-9538-6ACBC1FE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361-13E1-4316-9042-E60F7815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3A3-60DA-48EF-9A73-E53ECA3D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26F-4F2C-49B2-98EB-28083605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6539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710-6798-4BE4-AF04-0316E733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457-F29B-4FAD-BFD8-5E1144C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692-D9D3-4ABE-B3D6-70912024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F96-47B6-47A6-8514-73D862C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5-1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3280"/>
            <a:ext cx="2890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© KING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E9B82-83F8-480E-9E32-1ECD09B4533B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53120" y="285840"/>
            <a:ext cx="2090880" cy="10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Terugkoppeling expertgro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Utrecht - StUF Regiegroep - 27/10/20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Maarten van den Bro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Onderwer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Definitie sectormodel en koppelv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  <a:ea typeface="SimSun"/>
              </a:rPr>
              <a:t>Koppelvlak BAG-W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  <a:ea typeface="SimSun"/>
              </a:rPr>
              <a:t>Aanpassing beheer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UML-modellering informatiemod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Definieer koppelvlak terugmelden (Cen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Behandelen RFC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-376200"/>
            <a:ext cx="6543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0068"/>
                </a:solidFill>
                <a:latin typeface="Calibri"/>
              </a:rPr>
              <a:t>Sectormodel / koppelvlak (1)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-2091600" y="3331080"/>
            <a:ext cx="504504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519480" y="1618200"/>
            <a:ext cx="161928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1086840" y="1549080"/>
            <a:ext cx="1619280" cy="498600"/>
          </a:xfrm>
          <a:prstGeom prst="roundRect">
            <a:avLst>
              <a:gd name="adj" fmla="val 31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1816920" y="1492920"/>
            <a:ext cx="1619280" cy="611280"/>
          </a:xfrm>
          <a:prstGeom prst="roundRect">
            <a:avLst>
              <a:gd name="adj" fmla="val 25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30480" y="992160"/>
            <a:ext cx="3791160" cy="311040"/>
          </a:xfrm>
          <a:prstGeom prst="roundRect">
            <a:avLst>
              <a:gd name="adj" fmla="val 50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ontvangAsynchroon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1640" y="1619280"/>
            <a:ext cx="3780000" cy="287280"/>
          </a:xfrm>
          <a:prstGeom prst="roundRect">
            <a:avLst>
              <a:gd name="adj" fmla="val 55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beantwoordVraag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0480" y="2273400"/>
            <a:ext cx="3791160" cy="318960"/>
          </a:xfrm>
          <a:prstGeom prst="roundRect">
            <a:avLst>
              <a:gd name="adj" fmla="val 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verwerkSynchroneKennisgeving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294120" y="436464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stuf031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798840" y="436464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bg0311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302120" y="436464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basis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35200" y="3514680"/>
            <a:ext cx="156708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lv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5200" y="4307040"/>
            <a:ext cx="156708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pro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35200" y="5099040"/>
            <a:ext cx="156708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tio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27560" y="3514680"/>
            <a:ext cx="204480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lv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27560" y="4307040"/>
            <a:ext cx="204480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proces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27560" y="5099040"/>
            <a:ext cx="204480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tiox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62720" y="3519360"/>
            <a:ext cx="1104840" cy="270000"/>
          </a:xfrm>
          <a:prstGeom prst="roundRect">
            <a:avLst>
              <a:gd name="adj" fmla="val 588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62720" y="4307040"/>
            <a:ext cx="1104840" cy="245880"/>
          </a:xfrm>
          <a:prstGeom prst="roundRect">
            <a:avLst>
              <a:gd name="adj" fmla="val 648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4120" y="2610000"/>
            <a:ext cx="1440" cy="90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6651360" y="3832200"/>
            <a:ext cx="327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6651720" y="4578480"/>
            <a:ext cx="326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720" y="5099040"/>
            <a:ext cx="1104840" cy="282600"/>
          </a:xfrm>
          <a:prstGeom prst="roundRect">
            <a:avLst>
              <a:gd name="adj" fmla="val 560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651360" y="5405400"/>
            <a:ext cx="327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-1654920" y="3355200"/>
            <a:ext cx="5045040" cy="312480"/>
          </a:xfrm>
          <a:prstGeom prst="roundRect">
            <a:avLst>
              <a:gd name="adj" fmla="val 509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typ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22480" y="5759280"/>
            <a:ext cx="2574720" cy="257400"/>
          </a:xfrm>
          <a:prstGeom prst="roundRect">
            <a:avLst>
              <a:gd name="adj" fmla="val 616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servic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3280" y="6462720"/>
            <a:ext cx="474840" cy="257040"/>
          </a:xfrm>
          <a:prstGeom prst="roundRect">
            <a:avLst>
              <a:gd name="adj" fmla="val 616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800" y="6419880"/>
            <a:ext cx="2346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 Namespace StUF03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12920" y="6462720"/>
            <a:ext cx="474840" cy="257040"/>
          </a:xfrm>
          <a:prstGeom prst="roundRect">
            <a:avLst>
              <a:gd name="adj" fmla="val 6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19440" y="6419880"/>
            <a:ext cx="2109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 Namespace bg0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07240" y="6473880"/>
            <a:ext cx="474480" cy="257040"/>
          </a:xfrm>
          <a:prstGeom prst="roundRect">
            <a:avLst>
              <a:gd name="adj" fmla="val 616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3400" y="6432480"/>
            <a:ext cx="2244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 Namespace woz03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6543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>
                <a:solidFill>
                  <a:srgbClr val="cc0068"/>
                </a:solidFill>
                <a:latin typeface="Calibri"/>
              </a:rPr>
              <a:t>Sectormodel / koppelvlak (2)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88920" y="1619280"/>
            <a:ext cx="7831080" cy="369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50920" y="1800360"/>
            <a:ext cx="1189080" cy="315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448000" y="3059280"/>
            <a:ext cx="6265800" cy="81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448000" y="3959280"/>
            <a:ext cx="6265800" cy="81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448000" y="2158920"/>
            <a:ext cx="6265800" cy="811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5400000">
            <a:off x="-1991880" y="3796560"/>
            <a:ext cx="4630680" cy="276120"/>
          </a:xfrm>
          <a:prstGeom prst="roundRect">
            <a:avLst>
              <a:gd name="adj" fmla="val 574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77480" y="3365280"/>
            <a:ext cx="251928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744840" y="3296160"/>
            <a:ext cx="2519280" cy="498600"/>
          </a:xfrm>
          <a:prstGeom prst="roundRect">
            <a:avLst>
              <a:gd name="adj" fmla="val 31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64000" y="2303640"/>
            <a:ext cx="1571760" cy="57600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99200" y="232416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-1592640" y="3778200"/>
            <a:ext cx="4630680" cy="312840"/>
          </a:xfrm>
          <a:prstGeom prst="roundRect">
            <a:avLst>
              <a:gd name="adj" fmla="val 509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typ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7760" y="5975280"/>
            <a:ext cx="2575080" cy="257400"/>
          </a:xfrm>
          <a:prstGeom prst="roundRect">
            <a:avLst>
              <a:gd name="adj" fmla="val 616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servic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6793920" y="257328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64000" y="3168720"/>
            <a:ext cx="1571760" cy="57636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ba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99200" y="318780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6793920" y="3438360"/>
            <a:ext cx="436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2303640"/>
            <a:ext cx="1817640" cy="57600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21080" y="3168720"/>
            <a:ext cx="1817640" cy="57636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ba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0" y="4032360"/>
            <a:ext cx="1571760" cy="57600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99200" y="405288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6793920" y="426564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21080" y="4032360"/>
            <a:ext cx="1817640" cy="57600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4490640" y="477036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19000" y="534672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Spelregels 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600200"/>
            <a:ext cx="822960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tormodel bestaat uit kern + koppelv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Wijzigen kern → nieuwe 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oevoegen koppelvlak → geen nieuwe versie, maar uitbr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Wijzigen koppelvlak ná toevoeging → nieuwe 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Expertgroep beslist over toevoegen koppelv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82080"/>
            <a:ext cx="654372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Voorstel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Pas beheermodel aan en keur goed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in volgende regiegroep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-457200"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Voeg koppelvlak BAG-WOZ toe in bg0310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-457200"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Pas structuur schema's aan als erratum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3:03Z</dcterms:created>
  <dc:creator>Peter Klaver</dc:creator>
  <dc:description/>
  <dc:language>en-US</dc:language>
  <cp:lastModifiedBy>Peter</cp:lastModifiedBy>
  <dcterms:modified xsi:type="dcterms:W3CDTF">2010-02-17T11:58:30Z</dcterms:modified>
  <cp:revision>3</cp:revision>
  <dc:subject/>
  <dc:title>Werkplan StUF 2010</dc:title>
</cp:coreProperties>
</file>